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7.png" ContentType="image/png"/>
  <Override PartName="/ppt/media/image11.wmf" ContentType="image/x-wmf"/>
  <Override PartName="/ppt/media/image8.wmf" ContentType="image/x-wmf"/>
  <Override PartName="/ppt/media/image9.png" ContentType="image/png"/>
  <Override PartName="/ppt/media/image13.wmf" ContentType="image/x-wmf"/>
  <Override PartName="/ppt/media/image1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10080625" cy="7559675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5480" y="749160"/>
            <a:ext cx="4929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11.12.200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2860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D6F319-9E6A-4E55-BDDE-3E8E4708DEA3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E7486-0B83-4F5F-982D-FF1CA66FA5A4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06AD03-80F6-448E-B114-985FDCFD2BA2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16BB54-8B7C-41AE-A9A8-8AC60AD435C1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C027BB-3A2A-4E37-B03D-1E8DDE2422A4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AAD95A-2B8C-43ED-9E67-1B90C2012991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8F6E90-1340-4801-9DB3-DEDBCAEFC624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32C858-F0D3-4E61-8157-A5B983D06A56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BDDFBB-FF90-4B77-83A7-F8DC4E399244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BD2677-8D06-4D98-AF90-2ABD79463A30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6E233F-F261-4238-B61D-597100CDC2FC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4F29D5-16F6-4D5C-AC89-0B8DC24EFF81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4320"/>
                <a:tab algn="l" pos="1224000"/>
                <a:tab algn="l" pos="1633680"/>
                <a:tab algn="l" pos="2043000"/>
                <a:tab algn="l" pos="245124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6800"/>
                <a:tab algn="l" pos="5318280"/>
                <a:tab algn="l" pos="5727600"/>
                <a:tab algn="l" pos="6135840"/>
                <a:tab algn="l" pos="6546960"/>
                <a:tab algn="l" pos="6956280"/>
                <a:tab algn="l" pos="7365960"/>
                <a:tab algn="l" pos="7775640"/>
                <a:tab algn="l" pos="81835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5CD4C1-11D0-413C-9F49-A9138AED2010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754EB-0431-4AC2-8B54-FD2792E44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BC7E-4756-4E1F-89D1-270E23C39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EE71B-5AEC-4F2A-9119-9C54D66D7D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BB67-89DA-46A3-8D59-8D7D81722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BC60-6725-4728-93F2-AD7A4C1AF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03F5-4B4A-4363-AF2B-98A14A879E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04E2-6BC6-4EF2-954F-46309B569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9A31B-F9FD-4C41-8987-2DD1245F5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B908A-28BD-462D-AF10-6E7CCBE68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9308-401C-49F8-BD73-C459BABE2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EC3F-C905-40EC-ADD2-D3BE758C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D96E1-250D-46D9-A16E-8945D5FB6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6AE1EE0-B007-4D01-BE8B-CBE84CF602C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36440" y="493200"/>
            <a:ext cx="7318440" cy="535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Procesy a  pravidla </a:t>
            </a:r>
            <a:br>
              <a:rPr sz="4400"/>
            </a:b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realizace projektu</a:t>
            </a:r>
            <a:br>
              <a:rPr sz="4400"/>
            </a:br>
            <a:br>
              <a:rPr sz="4400"/>
            </a:br>
            <a:r>
              <a:rPr b="1" lang="cs-CZ" sz="2800" spc="-1" strike="noStrike">
                <a:solidFill>
                  <a:srgbClr val="f3912c"/>
                </a:solidFill>
                <a:latin typeface="Arial"/>
              </a:rPr>
              <a:t>Ing. Marie Kaufnerová</a:t>
            </a:r>
            <a:br>
              <a:rPr sz="2800"/>
            </a:br>
            <a:br>
              <a:rPr sz="2800"/>
            </a:br>
            <a:r>
              <a:rPr b="1" lang="cs-CZ" sz="1600" spc="-1" strike="noStrike">
                <a:solidFill>
                  <a:srgbClr val="f3912c"/>
                </a:solidFill>
                <a:latin typeface="Arial"/>
              </a:rPr>
              <a:t>Prezentace pro příjemce IPo, kteří se řídí Příručkou pro příjemce fin.podpory z OP VK, verze 3, učinná od 3.10.2009.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Zástupný symbol pro datum 3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13646F-E4B2-429C-83B4-706E09A43971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Zástupný symbol pro obsah 7"/>
          <p:cNvSpPr/>
          <p:nvPr/>
        </p:nvSpPr>
        <p:spPr>
          <a:xfrm>
            <a:off x="1897200" y="2136600"/>
            <a:ext cx="778644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Odstoupení od právního a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skytovatel podpory může v krajním případě odstoupit od právního aktu  OKAMŽITĚ poku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Příjemce bezdůvodně, dlouhodobě a opakovaně neplní některou z povinností uvedených v právním aktu (např. dodávání MZ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Příjemce je v úpadku nebo v likvidac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Příjemce změní právní formu, aniž by to doložil poskytovatel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Kontrola zjistí finanční podvody či jiná nekalá jednání příjemce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Statutární orgán či zaměstnanec příjemce se dopustí trestného činu, jehož skutková podstata souvisí s realizací projektu, a je za to pravomocně odsouzen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jekt nesplňuje podmínky, za nichž byla finanční podpora přidělena, a příjemce nenavrhne jeho uspokojivou modifikaci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Odstoupení PÍSEMNĚ, účinné dnem doručení příjemci, ruší se právní ak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4" descr="C:\Documents and Settings\gotzv\Local Settings\Temporary Internet Files\Content.IE5\ZXF16QS5\MCj03597570000[1].wmf"/>
          <p:cNvPicPr/>
          <p:nvPr/>
        </p:nvPicPr>
        <p:blipFill>
          <a:blip r:embed="rId1"/>
          <a:stretch/>
        </p:blipFill>
        <p:spPr>
          <a:xfrm>
            <a:off x="7969320" y="1353960"/>
            <a:ext cx="1274760" cy="1258920"/>
          </a:xfrm>
          <a:prstGeom prst="rect">
            <a:avLst/>
          </a:prstGeom>
          <a:ln w="0">
            <a:noFill/>
          </a:ln>
        </p:spPr>
      </p:pic>
      <p:sp>
        <p:nvSpPr>
          <p:cNvPr id="104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B586B25-C54E-489E-BDF6-9AFF4BE0495F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06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Zástupný symbol pro datum 4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956F373-2798-4342-9479-B9707FEF79FE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Obdélník 5"/>
          <p:cNvSpPr/>
          <p:nvPr/>
        </p:nvSpPr>
        <p:spPr>
          <a:xfrm>
            <a:off x="2182680" y="2637000"/>
            <a:ext cx="4714920" cy="218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lší možnost – zrušení DOHODOU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Arial"/>
                <a:ea typeface="Lucida Sans Unicode"/>
              </a:rPr>
              <a:t>Musí být písemné s uvedením důvodů, které vedly k ukončení účinnosti právního aktu včetně vzájemného vypořádání práv a závazk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Nadpis 5"/>
          <p:cNvSpPr/>
          <p:nvPr/>
        </p:nvSpPr>
        <p:spPr>
          <a:xfrm>
            <a:off x="1754280" y="636480"/>
            <a:ext cx="7740720" cy="134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Zástupný symbol pro datum 5"/>
          <p:cNvSpPr/>
          <p:nvPr/>
        </p:nvSpPr>
        <p:spPr>
          <a:xfrm>
            <a:off x="655560" y="7039080"/>
            <a:ext cx="23432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8C8E44-48BD-4BD0-AAEE-CFAB41D948F5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12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2" descr="C:\Documents and Settings\kaufnerovam\Local Settings\Temporary Internet Files\Content.IE5\1ZMAVU8U\MCj04398210000[1].png"/>
          <p:cNvPicPr/>
          <p:nvPr/>
        </p:nvPicPr>
        <p:blipFill>
          <a:blip r:embed="rId2"/>
          <a:stretch/>
        </p:blipFill>
        <p:spPr>
          <a:xfrm>
            <a:off x="4479840" y="4910040"/>
            <a:ext cx="2417760" cy="241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Zástupný symbol pro datum 4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87804D-B360-4349-93C5-D5FD29970C01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Obdélník 5"/>
          <p:cNvSpPr/>
          <p:nvPr/>
        </p:nvSpPr>
        <p:spPr>
          <a:xfrm>
            <a:off x="2397240" y="1851120"/>
            <a:ext cx="6215040" cy="451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Námitky proti postupu ŘO – možno podat do 15 pracovních dní od okamžiku doručení písemného vyrozumě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Zaslat 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 </a:t>
            </a: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na odbor </a:t>
            </a:r>
            <a:r>
              <a:rPr b="1" i="1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46 CERA – Implementace projektů strukturálních fondů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 </a:t>
            </a: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pokud nebudete spokojeni s řešením vaší námitky  odborem 46, můžete se poté obrátit na odbor </a:t>
            </a:r>
            <a:r>
              <a:rPr b="1" i="1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41 – Odbor řízení OP VK</a:t>
            </a: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, který provede prošetře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"/>
              <a:tabLst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1800" spc="-1" strike="noStrike">
                <a:solidFill>
                  <a:srgbClr val="262626"/>
                </a:solidFill>
                <a:latin typeface="Arial"/>
                <a:ea typeface="Lucida Sans Unicode"/>
              </a:rPr>
              <a:t>     </a:t>
            </a:r>
            <a:r>
              <a:rPr b="0" lang="cs-CZ" sz="1800" spc="-1" strike="noStrike">
                <a:solidFill>
                  <a:srgbClr val="262626"/>
                </a:solidFill>
                <a:latin typeface="Arial"/>
                <a:ea typeface="Lucida Sans Unicode"/>
              </a:rPr>
              <a:t>Námitka či její prošetření, by mělo být provedeno během 15 pracovních dní, u složitých případů do 20 pracovních dn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Nadpis 5"/>
          <p:cNvSpPr/>
          <p:nvPr/>
        </p:nvSpPr>
        <p:spPr>
          <a:xfrm>
            <a:off x="1754280" y="636480"/>
            <a:ext cx="77407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Námitky a jejich řešení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Zástupný symbol pro datum 5"/>
          <p:cNvSpPr/>
          <p:nvPr/>
        </p:nvSpPr>
        <p:spPr>
          <a:xfrm>
            <a:off x="655560" y="7039080"/>
            <a:ext cx="23432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412EA7-D042-4CA7-B899-1E3BD08CCA2B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19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Picture 2" descr="C:\Documents and Settings\kaufnerovam\Local Settings\Temporary Internet Files\Content.IE5\0C5TUC9H\MCj04398240000[1].png"/>
          <p:cNvPicPr/>
          <p:nvPr/>
        </p:nvPicPr>
        <p:blipFill>
          <a:blip r:embed="rId2"/>
          <a:stretch/>
        </p:blipFill>
        <p:spPr>
          <a:xfrm>
            <a:off x="8136000" y="4280040"/>
            <a:ext cx="194472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Zástupný symbol pro datum 4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8C6796-3427-4FB1-B823-F34A661699F2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Obdélník 5"/>
          <p:cNvSpPr/>
          <p:nvPr/>
        </p:nvSpPr>
        <p:spPr>
          <a:xfrm>
            <a:off x="1539720" y="1851120"/>
            <a:ext cx="7715520" cy="439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800" spc="-1" strike="noStrike">
                <a:solidFill>
                  <a:srgbClr val="262626"/>
                </a:solidFill>
                <a:latin typeface="Arial"/>
                <a:ea typeface="Lucida Sans Unicode"/>
              </a:rPr>
              <a:t>Příjemce je povinen všechny nově vytvořené produkty předat do vlastnictví poskytovatele, který je oprávněn je volně a bezplatně  šířit v časově, územně a množstevně neomezeném rozsahu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000" spc="-1" strike="noStrike">
                <a:solidFill>
                  <a:srgbClr val="262626"/>
                </a:solidFill>
                <a:latin typeface="Arial"/>
                <a:ea typeface="Lucida Sans Unicode"/>
              </a:rPr>
              <a:t>Pokud je držitelem takových práv duševního vlastnictví vzniklých na základě zakázky jiná osoba než příjemce dotace, je příjemce dotace povinen ve smlouvě uzavřené s dodavatelem zajistit pro poskytovatele neomezenou bezplatnou licenci k využití těchto práv včetně možnosti  zcela nebo z části poskytnout třetí osobě oprávněn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Nadpis 5"/>
          <p:cNvSpPr/>
          <p:nvPr/>
        </p:nvSpPr>
        <p:spPr>
          <a:xfrm>
            <a:off x="1754280" y="636480"/>
            <a:ext cx="7740720" cy="8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Autorská práva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Zástupný symbol pro datum 5"/>
          <p:cNvSpPr/>
          <p:nvPr/>
        </p:nvSpPr>
        <p:spPr>
          <a:xfrm>
            <a:off x="655560" y="7039080"/>
            <a:ext cx="2343240" cy="5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BBC7C5-6860-48B9-B146-AA5C8EA2F488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26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Vztahy a povinnosti příjemce vůči cílovým skupiná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Postupy při oslovování cílových skup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K oslovení cílové skupiny využívat legální nástroje publicity projektu (letáčky, plakáty, prezentace na seminářích či konferencích, inzerce v tisku či v dalších sdělovacích prostředcích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Vyvarovat se diskreditace cílové skupiny a tím i projektu samotnéh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Je vhodné si zajistit souhlas cílové skupiny s informováním  o aktivitách projektu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9" name="Picture 4" descr="C:\Documents and Settings\gotzv\Local Settings\Temporary Internet Files\Content.IE5\84NCG0JY\MCj02382830000[1].wmf"/>
          <p:cNvPicPr/>
          <p:nvPr/>
        </p:nvPicPr>
        <p:blipFill>
          <a:blip r:embed="rId1"/>
          <a:stretch/>
        </p:blipFill>
        <p:spPr>
          <a:xfrm>
            <a:off x="8612280" y="1301760"/>
            <a:ext cx="1143000" cy="1500120"/>
          </a:xfrm>
          <a:prstGeom prst="rect">
            <a:avLst/>
          </a:prstGeom>
          <a:ln w="0">
            <a:noFill/>
          </a:ln>
        </p:spPr>
      </p:pic>
      <p:sp>
        <p:nvSpPr>
          <p:cNvPr id="130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9565AC-496E-41F3-9E72-524AE463A498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1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32" name="Nadpis 1"/>
          <p:cNvSpPr/>
          <p:nvPr/>
        </p:nvSpPr>
        <p:spPr>
          <a:xfrm>
            <a:off x="6469200" y="670860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Vztahy a povinnosti příjemce vůči cílovým skupiná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Evidence osob z cílové skupin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vinnost příjemce vést evidenci cílové skupiny účastnící se akcí projektu (například prezenční listiny, seznamy, přihlášky)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Dle evidence se provádí monitoring a kontrola výdajů projekt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U nezletilých osob zvážit zda není potřeba souhlas zákonného zástupce s účastí v projekt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5" name="Picture 3" descr="C:\Documents and Settings\gotzv\Local Settings\Temporary Internet Files\Content.IE5\YAIUOI0Q\MCj04040350000[1].wmf"/>
          <p:cNvPicPr/>
          <p:nvPr/>
        </p:nvPicPr>
        <p:blipFill>
          <a:blip r:embed="rId1"/>
          <a:stretch/>
        </p:blipFill>
        <p:spPr>
          <a:xfrm>
            <a:off x="8326440" y="1779480"/>
            <a:ext cx="1198440" cy="1341720"/>
          </a:xfrm>
          <a:prstGeom prst="rect">
            <a:avLst/>
          </a:prstGeom>
          <a:ln w="0">
            <a:noFill/>
          </a:ln>
        </p:spPr>
      </p:pic>
      <p:sp>
        <p:nvSpPr>
          <p:cNvPr id="136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3E0BA5-7855-4078-AD98-1D4AF6689547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38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Vztahy a povinnosti příjemce vůči cílovým skupiná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Ochrana osobních údaj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říjemce je povinen při zajišťování a evidenci osobních údajů postupovat v souladu se zákonem č.101/2000 Sb., o ochraně osobních údajů (zajistit souhlas evidovaných osob či jejich zákonných zástupců s jejich využitím a způsobem využití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  <a:ea typeface="Lucida Sans Unicode"/>
              </a:rPr>
              <a:t>Pro Individuální projekty kde se poskytnutí fin. pomoci řídí zákonem č. 218/2000 Sb. o rozpočtových pravidlech (poskytovatel dotace vydá písemné rozhodnutí formou právního aktu, který zavazuje příjemce k naplňování monitorovacích indikátorů a jejich dokladování) není povinnost oznamovat zpracování osobních údajů Úřadu pro ochranu osobních údajů 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1" name="Picture 2" descr="C:\Documents and Settings\gotzv\Local Settings\Temporary Internet Files\Content.IE5\ZXF16QS5\MCBD05027_0000[1].wmf"/>
          <p:cNvPicPr/>
          <p:nvPr/>
        </p:nvPicPr>
        <p:blipFill>
          <a:blip r:embed="rId1"/>
          <a:stretch/>
        </p:blipFill>
        <p:spPr>
          <a:xfrm>
            <a:off x="7826400" y="1771560"/>
            <a:ext cx="1500120" cy="1555920"/>
          </a:xfrm>
          <a:prstGeom prst="rect">
            <a:avLst/>
          </a:prstGeom>
          <a:ln w="0">
            <a:noFill/>
          </a:ln>
        </p:spPr>
      </p:pic>
      <p:sp>
        <p:nvSpPr>
          <p:cNvPr id="142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AE4E10-E4B9-42FA-9203-577B16DF83C1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44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896840" y="850680"/>
            <a:ext cx="6048360" cy="221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ěkuji za pozornost</a:t>
            </a:r>
            <a:br>
              <a:rPr sz="20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976400" y="2851200"/>
            <a:ext cx="7564320" cy="3952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1000"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Ing. Marie Kaufner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rojektový manažer – oblast podpory 1.1 Zvyšování kvality ve vzdělávání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  46 - C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mail: marie.kaufnerova@msmt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ástupný symbol pro datum 4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76E75D-AAF1-47F4-9DEC-9BA48C9305AF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49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Zástupný symbol pro text 8"/>
          <p:cNvSpPr/>
          <p:nvPr/>
        </p:nvSpPr>
        <p:spPr>
          <a:xfrm>
            <a:off x="1968480" y="6708600"/>
            <a:ext cx="3492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i="1" lang="cs-CZ" sz="1600" spc="-1" strike="noStrike">
                <a:solidFill>
                  <a:srgbClr val="7f7f7f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2" descr="C:\Documents and Settings\gotzv\Local Settings\Temporary Internet Files\Content.IE5\DBCR952T\MCj03359370000[1].wmf"/>
          <p:cNvPicPr/>
          <p:nvPr/>
        </p:nvPicPr>
        <p:blipFill>
          <a:blip r:embed="rId1"/>
          <a:stretch/>
        </p:blipFill>
        <p:spPr>
          <a:xfrm>
            <a:off x="7326360" y="1994040"/>
            <a:ext cx="1944720" cy="1662120"/>
          </a:xfrm>
          <a:prstGeom prst="rect">
            <a:avLst/>
          </a:prstGeom>
          <a:ln w="0">
            <a:noFill/>
          </a:ln>
        </p:spPr>
      </p:pic>
      <p:sp>
        <p:nvSpPr>
          <p:cNvPr id="55" name="Zástupný symbol pro obsah 7"/>
          <p:cNvSpPr/>
          <p:nvPr/>
        </p:nvSpPr>
        <p:spPr>
          <a:xfrm>
            <a:off x="1897200" y="1208160"/>
            <a:ext cx="7669080" cy="554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Zahájení proj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tum akceptace Rozhodnut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b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zdější datum uvedené v projektové žádost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Datum uvedené v právním ak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Za způsobilé se považují pouze výdaje vzniklé během realizace tj. mezi těmito da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Nadpis 5"/>
          <p:cNvSpPr/>
          <p:nvPr/>
        </p:nvSpPr>
        <p:spPr>
          <a:xfrm>
            <a:off x="1825560" y="279360"/>
            <a:ext cx="7929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oba realizace projekt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0274D-D67A-443D-B295-7D9931D38236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59" name="Nadpis 1"/>
          <p:cNvSpPr/>
          <p:nvPr/>
        </p:nvSpPr>
        <p:spPr>
          <a:xfrm>
            <a:off x="6397560" y="691668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Nadpis 5"/>
          <p:cNvSpPr/>
          <p:nvPr/>
        </p:nvSpPr>
        <p:spPr>
          <a:xfrm>
            <a:off x="1897200" y="422280"/>
            <a:ext cx="792936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oba realizace projekt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Změna data ukončení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dstatná změna projektu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Možná pouze v řádně odůvodněných a schválených případe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Způsobilé výdaje proj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Od data zahájení projektu do data ukončení projek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 datu ukončení pouze audit a mzdy pracovníků projektu za poslední měsíc realizace, vyúčtování zálo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28344E-2028-4267-8CE5-EEB5B0933388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64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Zástupný symbol pro text 8"/>
          <p:cNvSpPr/>
          <p:nvPr/>
        </p:nvSpPr>
        <p:spPr>
          <a:xfrm>
            <a:off x="1968480" y="6708600"/>
            <a:ext cx="3492360" cy="28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Zástupný symbol pro obsah 7"/>
          <p:cNvSpPr/>
          <p:nvPr/>
        </p:nvSpPr>
        <p:spPr>
          <a:xfrm>
            <a:off x="196848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Délka trvání projektů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Uvedena v právním ak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jdéle 36 měsíců od přijetí právního aktu s nejzazším datem ukončení 30.6. 2015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říjemce i poskytovatel podpory jsou oprávněni ukončit práci na projektu a jeho financování avšak pouze ze závažných důvodů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Nadpis 5"/>
          <p:cNvSpPr/>
          <p:nvPr/>
        </p:nvSpPr>
        <p:spPr>
          <a:xfrm>
            <a:off x="1825560" y="279360"/>
            <a:ext cx="7929720" cy="78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oba realizace projektu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Zástupný symbol pro datum 6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84DD77-7CF0-4C63-9B91-817DEA6FAAA0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70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2" descr="C:\Documents and Settings\kaufnerovam\Local Settings\Temporary Internet Files\Content.IE5\RO1OPC4G\MCj04397990000[1].png"/>
          <p:cNvPicPr/>
          <p:nvPr/>
        </p:nvPicPr>
        <p:blipFill>
          <a:blip r:embed="rId2"/>
          <a:stretch/>
        </p:blipFill>
        <p:spPr>
          <a:xfrm>
            <a:off x="6413400" y="1339920"/>
            <a:ext cx="1913040" cy="1913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Zástupný symbol pro obsah 7"/>
          <p:cNvSpPr/>
          <p:nvPr/>
        </p:nvSpPr>
        <p:spPr>
          <a:xfrm>
            <a:off x="1897200" y="1565280"/>
            <a:ext cx="7669080" cy="532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 příjemc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ísemně k rukám poskytovatele formou návrhu na změnu právního aktu s novým datem ukončení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S nejvýše dvouměsíční lhůtou uzavření projek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V případě akceptace změnového právního aktu (Rozhodnutí o změně Rozhodnutí) začíná běžet lhůta pro uzavření aktivit projekt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využité prostředky ve prospěch projektu musí být vráceny do 20 pracovních dnů po ukončení projekt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5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kud byl projekt financován v režimu zálohování  - odděleně evidovat výdaje uskutečněné po dni odeslání návrhu na ukončení projektu. Vyúčtování těchto výdajů (pokud nebudou řádně zdůvodněny v komentáři přiloženém k vyúčtování) nemusí být poskytovatelem  podpory akceptováno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" name="Picture 2" descr="C:\Documents and Settings\gotzv\Local Settings\Temporary Internet Files\Content.IE5\LUHYZSFQ\MCj04326440000[1].png"/>
          <p:cNvPicPr/>
          <p:nvPr/>
        </p:nvPicPr>
        <p:blipFill>
          <a:blip r:embed="rId1"/>
          <a:stretch/>
        </p:blipFill>
        <p:spPr>
          <a:xfrm>
            <a:off x="7969320" y="851040"/>
            <a:ext cx="1571400" cy="1571400"/>
          </a:xfrm>
          <a:prstGeom prst="rect">
            <a:avLst/>
          </a:prstGeom>
          <a:ln w="0">
            <a:noFill/>
          </a:ln>
        </p:spPr>
      </p:pic>
      <p:sp>
        <p:nvSpPr>
          <p:cNvPr id="75" name="Zástupný symbol pro datum 6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D64427-38CC-415F-BACC-B58AC540D3B0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77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Neoprávněné předčasné ukončení projekt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V případě porušení podmínek právního aktu (nedodržení podmínek pro předčasné ukončení projektu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říjemce je povinen vrátit neoprávněně vyplacené prostředky v plné výši a ve lhůtě stanovené poskytovatele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" name="Picture 7" descr="C:\Documents and Settings\gotzv\Local Settings\Temporary Internet Files\Content.IE5\7WLRSXM1\MCj04247840000[1].wmf"/>
          <p:cNvPicPr/>
          <p:nvPr/>
        </p:nvPicPr>
        <p:blipFill>
          <a:blip r:embed="rId1"/>
          <a:stretch/>
        </p:blipFill>
        <p:spPr>
          <a:xfrm>
            <a:off x="8112240" y="2922480"/>
            <a:ext cx="1447560" cy="1330560"/>
          </a:xfrm>
          <a:prstGeom prst="rect">
            <a:avLst/>
          </a:prstGeom>
          <a:ln w="0">
            <a:noFill/>
          </a:ln>
        </p:spPr>
      </p:pic>
      <p:sp>
        <p:nvSpPr>
          <p:cNvPr id="81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3BC6502-32B0-432A-9092-E19396F24114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83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Pozastavení podpory z OP VK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skytovatel podpory je  při podezření na porušení rozpočtové kázně či porušení dalších povinností uvedených v právním aktu o poskytnutí podpory oprávně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vyzvat příjemce k okamžité nápravě zjištěných nedostatků a stanovit lhůty k náprav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- preventivně pozastavit platby příjemci podpo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7" descr="C:\Documents and Settings\gotzv\Local Settings\Temporary Internet Files\Content.IE5\YAIUOI0Q\MCj04315090000[1].png"/>
          <p:cNvPicPr/>
          <p:nvPr/>
        </p:nvPicPr>
        <p:blipFill>
          <a:blip r:embed="rId1"/>
          <a:stretch/>
        </p:blipFill>
        <p:spPr>
          <a:xfrm>
            <a:off x="8112240" y="2208240"/>
            <a:ext cx="1400040" cy="1400040"/>
          </a:xfrm>
          <a:prstGeom prst="rect">
            <a:avLst/>
          </a:prstGeom>
          <a:ln w="0">
            <a:noFill/>
          </a:ln>
        </p:spPr>
      </p:pic>
      <p:sp>
        <p:nvSpPr>
          <p:cNvPr id="87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3FCFE1-497A-40E3-AB44-EA22423C57DB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89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Zástupný symbol pro obsah 7"/>
          <p:cNvSpPr/>
          <p:nvPr/>
        </p:nvSpPr>
        <p:spPr>
          <a:xfrm>
            <a:off x="1897200" y="1636560"/>
            <a:ext cx="7669080" cy="51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Ukončení projektu poskytovatelem finanční podp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Poskytovatel podpory může vypovědět právní akt o poskytnutí podpory pokud nedojde k nápravě zjištěných nedostatků ve stanovené lhůtě a to  s dvouměsíční výpovědní lhůtou na ukončení aktivit projektu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Nárok příjemce na proplacení odpovídající části způsobilých výdajů bude posuzován poskytovatelem individuálně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Nevyužité prostředky vrátit do 20 pracovních dní od ukončení projektu( přes zřizovatele - 20 prac. dní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Zástupný symbol pro datum 6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AEFA24-C64D-4083-99FE-661A0019A74F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3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94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825560" y="208080"/>
            <a:ext cx="7740720" cy="134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Ukončení projektu v jiném režim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Zástupný symbol pro obsah 7"/>
          <p:cNvSpPr/>
          <p:nvPr/>
        </p:nvSpPr>
        <p:spPr>
          <a:xfrm>
            <a:off x="1897200" y="2136600"/>
            <a:ext cx="7669080" cy="461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200" spc="-1" strike="noStrike">
                <a:solidFill>
                  <a:srgbClr val="f3912c"/>
                </a:solidFill>
                <a:latin typeface="Arial"/>
              </a:rPr>
              <a:t>Řízení o odnětí podpo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Řízení o odnětí podpory může být zahájeno pokud došlo k porušení pravidel zákona č. 218/2000 Sb. O rozpočtových pravidle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* k vázání prostředků státního rozpočt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*ke zjištění, že podpora byla poskytnuta na základě neúplných či nepravdivých údajů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* právní akt byl vydán v rozporu se zákonem či právem 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lnSpc>
                <a:spcPct val="93000"/>
              </a:lnSpc>
              <a:spcAft>
                <a:spcPts val="850"/>
              </a:spcAft>
              <a:tabLst>
                <a:tab algn="l" pos="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 </a:t>
            </a:r>
            <a:r>
              <a:rPr b="0" lang="cs-CZ" sz="2400" spc="-1" strike="noStrike">
                <a:solidFill>
                  <a:srgbClr val="000000"/>
                </a:solidFill>
                <a:latin typeface="Arial"/>
                <a:ea typeface="Lucida Sans Unicode"/>
              </a:rPr>
              <a:t>*nemůže být řádně či včas splněn účel dot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Zástupný symbol pro datum 5"/>
          <p:cNvSpPr/>
          <p:nvPr/>
        </p:nvSpPr>
        <p:spPr>
          <a:xfrm>
            <a:off x="50328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95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9E9C6D-A5D1-43D7-B7DD-B79A63114F9C}" type="datetime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28.07.20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99" name="Nadpis 1"/>
          <p:cNvSpPr/>
          <p:nvPr/>
        </p:nvSpPr>
        <p:spPr>
          <a:xfrm>
            <a:off x="6540480" y="67802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2" descr="C:\Documents and Settings\kaufnerovam\Local Settings\Temporary Internet Files\Content.IE5\SUKH4R2G\MCj04398220000[1].png"/>
          <p:cNvPicPr/>
          <p:nvPr/>
        </p:nvPicPr>
        <p:blipFill>
          <a:blip r:embed="rId2"/>
          <a:stretch/>
        </p:blipFill>
        <p:spPr>
          <a:xfrm>
            <a:off x="7362720" y="1173240"/>
            <a:ext cx="1392480" cy="1392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2-09T14:43:31Z</dcterms:modified>
  <cp:revision>102</cp:revision>
  <dc:subject/>
  <dc:title>Snímek 1</dc:title>
</cp:coreProperties>
</file>